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64A-1D24-42B9-9049-2B3CE751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7D0-8698-4BE9-B420-2E7F5E74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F5A-49D3-481F-A177-0E3ADE23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A59-29F6-4206-AAAB-2513BBC5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514-CBFC-486C-8734-8BD2F951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060-5D5F-4D3D-875E-D582BA2B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C84-63BE-48AF-BC89-FFD2DC40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361-227A-4FFD-A79D-278AE3A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8AB-3C6F-42FA-806F-5756413D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395-8CC1-46F3-971A-86787D8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13C-B304-4AA8-BB4A-C7C2E98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CB6-9B3F-4793-8390-74FA863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DFB85B4E-0D03-42F9-BFA3-A38F651E9939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6280" y="7040520"/>
            <a:ext cx="768204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Grade Forensic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2916" t="35188" r="25696" b="35184"/>
          <a:stretch/>
        </p:blipFill>
        <p:spPr>
          <a:xfrm>
            <a:off x="1371600" y="3394080"/>
            <a:ext cx="8183520" cy="354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365040" y="457200"/>
            <a:ext cx="612612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Cooper Black"/>
              </a:rPr>
              <a:t>Ridgeolog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346480" y="2239920"/>
            <a:ext cx="8321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loser Look at Fingerpr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7869240"/>
            <a:ext cx="6217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ftp://sequoyah.nist.gov/pub/nist_internal_reports/ir_6534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78200" y="7859880"/>
            <a:ext cx="6218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7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67760"/>
            <a:ext cx="1042344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1468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dge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study of the uniqueness of fric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 and their use for person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6095880"/>
            <a:ext cx="10058040" cy="1720080"/>
            <a:chOff x="457200" y="6095880"/>
            <a:chExt cx="10058040" cy="1720080"/>
          </a:xfrm>
        </p:grpSpPr>
        <p:sp>
          <p:nvSpPr>
            <p:cNvPr id="49" name=""/>
            <p:cNvSpPr/>
            <p:nvPr/>
          </p:nvSpPr>
          <p:spPr>
            <a:xfrm>
              <a:off x="2285640" y="6291360"/>
              <a:ext cx="8229600" cy="13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 koala is one of the few mammals (other than primates) that has fingerprints. In fact, koala fingerprints are remarkably similar to human fingerprints; even with an electron microscope, it can be quite difficult to distinguish between the tw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57200" y="6095880"/>
              <a:ext cx="1645560" cy="1720080"/>
              <a:chOff x="457200" y="6095880"/>
              <a:chExt cx="1645560" cy="172008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6461280"/>
                <a:ext cx="1554480" cy="135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 txBox="1"/>
              <p:nvPr/>
            </p:nvSpPr>
            <p:spPr>
              <a:xfrm>
                <a:off x="457200" y="6095880"/>
                <a:ext cx="1639800" cy="624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lba"/>
                  </a:rPr>
                  <a:t>Did you know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lba"/>
                  <a:ea typeface="Alba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228600" y="2462760"/>
            <a:ext cx="10621800" cy="3631680"/>
            <a:chOff x="228600" y="2462760"/>
            <a:chExt cx="10621800" cy="3631680"/>
          </a:xfrm>
        </p:grpSpPr>
        <p:sp>
          <p:nvSpPr>
            <p:cNvPr id="54" name=""/>
            <p:cNvSpPr/>
            <p:nvPr/>
          </p:nvSpPr>
          <p:spPr>
            <a:xfrm>
              <a:off x="7726320" y="5619600"/>
              <a:ext cx="3124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from http://www.cs.usyd.edu.au/~irena/minutia.g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28600" y="2462760"/>
              <a:ext cx="10447200" cy="3096000"/>
              <a:chOff x="228600" y="2462760"/>
              <a:chExt cx="10447200" cy="3096000"/>
            </a:xfrm>
          </p:grpSpPr>
          <p:sp>
            <p:nvSpPr>
              <p:cNvPr id="56" name=""/>
              <p:cNvSpPr/>
              <p:nvPr/>
            </p:nvSpPr>
            <p:spPr>
              <a:xfrm>
                <a:off x="228600" y="2462760"/>
                <a:ext cx="7680240" cy="30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71468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s we have learned in our first lesson, a fingerprint is made of a series of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idge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alley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on the surface of the finger. The uniqueness of a fingerprint can be determined by the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atter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of ridges and valleys as well as the location, shape, and position of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inutia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oints, which are points where the ridge structure changes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31240" y="2487600"/>
                <a:ext cx="2644560" cy="304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" name=""/>
          <p:cNvSpPr/>
          <p:nvPr/>
        </p:nvSpPr>
        <p:spPr>
          <a:xfrm>
            <a:off x="533520" y="1235160"/>
            <a:ext cx="100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m “ridgeology” was coined by Sergeant David Ashbaugh to describe the scientific evaluation process used for friction ridge identif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7859880"/>
            <a:ext cx="10515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roduction to Basic Ridge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David Ashbaugh, May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624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4. Ridge Characteristic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140" t="22225" r="20833" b="23148"/>
          <a:stretch/>
        </p:blipFill>
        <p:spPr>
          <a:xfrm>
            <a:off x="914400" y="1219320"/>
            <a:ext cx="93726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70000"/>
            <a:ext cx="102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ake a look at the sample fingerprint below to see several ridge characteristics that you might find during a fingerprint examin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120" y="1084320"/>
            <a:ext cx="9620280" cy="6840360"/>
            <a:chOff x="762120" y="1084320"/>
            <a:chExt cx="9620280" cy="68403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857600" y="1084320"/>
              <a:ext cx="7848360" cy="68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762120" y="2209680"/>
              <a:ext cx="9620280" cy="5183280"/>
              <a:chOff x="762120" y="2209680"/>
              <a:chExt cx="9620280" cy="5183280"/>
            </a:xfrm>
          </p:grpSpPr>
          <p:sp>
            <p:nvSpPr>
              <p:cNvPr id="66" name=""/>
              <p:cNvSpPr/>
              <p:nvPr/>
            </p:nvSpPr>
            <p:spPr>
              <a:xfrm>
                <a:off x="7639200" y="220968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rossov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9200" y="297108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9200" y="37332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Bifurcation (fork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9200" y="460152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Ridge end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9200" y="536364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sl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9200" y="617148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62880" y="696384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2120" y="4928760"/>
                <a:ext cx="8380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ca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467000" y="4799880"/>
                <a:ext cx="6094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104760" y="784872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nx.org/content/m12574/latest/proper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577960" y="719280"/>
            <a:ext cx="5968800" cy="7464600"/>
            <a:chOff x="2577960" y="719280"/>
            <a:chExt cx="5968800" cy="7464600"/>
          </a:xfrm>
        </p:grpSpPr>
        <p:sp>
          <p:nvSpPr>
            <p:cNvPr id="77" name=""/>
            <p:cNvSpPr/>
            <p:nvPr/>
          </p:nvSpPr>
          <p:spPr>
            <a:xfrm>
              <a:off x="2882520" y="7907400"/>
              <a:ext cx="541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www.dkfz.de/tbi/projects/bmcv/images/iu_it246_04s_fingerprint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577960" y="719280"/>
              <a:ext cx="5968800" cy="716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80880" y="181080"/>
            <a:ext cx="10211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How many ridge characteristics can you identify in this fingerpri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71680" y="30492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mated Fingerprint Identification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143000"/>
            <a:ext cx="1021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IS is a computerized system capable of reading, classifying, matching, and storing fingerprints for criminal justice agencies. Quality latent fingerprints are entered into the AFIS for a search for possible matches against the state maintained databases for fingerprint records to  help establish the identity of unknown deceased persons or suspects in a criminal c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3816360"/>
            <a:ext cx="10667880" cy="3119400"/>
            <a:chOff x="152280" y="3816360"/>
            <a:chExt cx="10667880" cy="3119400"/>
          </a:xfrm>
        </p:grpSpPr>
        <p:grpSp>
          <p:nvGrpSpPr>
            <p:cNvPr id="83" name=""/>
            <p:cNvGrpSpPr/>
            <p:nvPr/>
          </p:nvGrpSpPr>
          <p:grpSpPr>
            <a:xfrm>
              <a:off x="152280" y="3816360"/>
              <a:ext cx="5029200" cy="3119400"/>
              <a:chOff x="152280" y="3816360"/>
              <a:chExt cx="5029200" cy="3119400"/>
            </a:xfrm>
          </p:grpSpPr>
          <p:sp>
            <p:nvSpPr>
              <p:cNvPr id="84" name=""/>
              <p:cNvSpPr/>
              <p:nvPr/>
            </p:nvSpPr>
            <p:spPr>
              <a:xfrm>
                <a:off x="152280" y="6689520"/>
                <a:ext cx="502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ttp://www.fdle.state.fl.us/CrimeLab/images/fingerrint%20comparison%20for%20afis.jp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6680" y="3816360"/>
                <a:ext cx="5000400" cy="277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"/>
            <p:cNvSpPr/>
            <p:nvPr/>
          </p:nvSpPr>
          <p:spPr>
            <a:xfrm>
              <a:off x="5257800" y="3892320"/>
              <a:ext cx="556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minutiae on two different prints match, these are called points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r points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entifi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ice the corresponding points on the fingerprints shown at left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286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gerprin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839080" y="990720"/>
            <a:ext cx="1749600" cy="175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10666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or almost a hundred years, the primary method used to examine prints w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n examiner would compare the ridges in two prints, and if enough of the ridge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ywhere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was said to be an ident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76960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http://www.abc.net.au/rn/bigidea/stories/s67366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352680"/>
            <a:ext cx="1021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n the pa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ars, there has been a shift away from the points system to the system known as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g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iner must determine if there are en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j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common to determine if two fingerprints are mat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features to consider in ident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ridg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ridge patterns (ridge ending, bifurcation, do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ridge structures (width, shape, position of por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eatures present in a print, such as creases, scars, war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90920" y="762120"/>
            <a:ext cx="5873760" cy="708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2209680"/>
            <a:ext cx="81536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ine the fingerprints on your “My Prints” page using a hand l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information presented in this lesson to identify unique patterns in the ridges as well as ridge characteristics that might be used to identify the pr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85800"/>
            <a:ext cx="25909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y 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7:04:38Z</dcterms:created>
  <dc:creator>Tracy Trimpe</dc:creator>
  <dc:description/>
  <dc:language>en-US</dc:language>
  <cp:lastModifiedBy>Tracy Trimpe</cp:lastModifiedBy>
  <dcterms:modified xsi:type="dcterms:W3CDTF">2008-02-25T19:22:08Z</dcterms:modified>
  <cp:revision>74</cp:revision>
  <dc:subject/>
  <dc:title>Slide 1</dc:title>
</cp:coreProperties>
</file>